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07B-E2A7-4435-BE93-00926EBF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662-FD36-494C-83F8-8E749EF8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FA6-0BEB-4E07-BFE0-C88163F4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7E8-A53C-4337-B2FB-AF693429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C66-C415-4502-B704-E019656A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13A-ED71-4B93-A52D-AB45179B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8B28-B640-4F14-8E86-41C1BC2C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54FA-4E18-4E00-8930-3108557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DB9E-B55B-4B0E-BCA8-CDBC4E2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2C7-0F38-4B5E-B6A4-649130A4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11C-93A1-4210-819C-69A9112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C99-0096-481F-A3D6-37178E6C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FD3-6CD3-48F5-9D76-7E4AB5C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E0CF-D20D-4E85-8C50-EEB4137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FC3D-B9A6-4094-8F2C-D7607072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B8D6-5553-4BDF-ABEF-FBE1C1A4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0F13-E3CC-444D-B964-82C3B07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76C-7ACD-42F3-A7F0-BC0CCB5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A32-FBA6-42BD-8D97-52C79A9E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95D-55A0-4A0B-859C-897C31A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936-C3D3-43FF-93D1-C4B2103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34B-1DC3-4A7B-B286-AEDFBA41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6FA-01BF-4A75-8955-CD67760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338-C7AB-4F31-A674-A43C9DB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5D8-77A4-42C5-977F-E132E85950F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76A-D825-4B05-994C-1FA2E5707C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I: Data Analysis: Analyzing Qualitative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types of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odes developed before the data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ctive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velop codes during 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recording notes about what the researcher is learning or feeling from the raw data during and after 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s are an additional tool to help analy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ding and analyz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s to complete the code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can use many tools to draw conclu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rocess of quantifying data (e.g. counting how many times a word appear or a code is repeated) Important for summarizing final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Hierarchical or strict inclus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adley’s Universal Seman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ilds relationship between categories and codes using a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Network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fine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ist some resources of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xplain  what is meant by qualitative data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dentify the parts of qualitative data analysis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 form of words rather tha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urc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Audi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Field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Surve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Historical rec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Photos,painting, so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Typ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books, writing, stories, survey comments, news articles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Un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transcriptions, interviews, focus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Audio recor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Visual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organizing the raw data in categories, identifying relationships among the categories to provide an explanationand understanding of people and situations which are investig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nvolves 3 proced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of th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ing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ranscript the information to visualiz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1 I   So you are saying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2 R  Yes, I think that…………………………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3      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4     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5  I   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cation of theme (cod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In this step researcher combine the data  for themes and categories the mark similar passage of the text with a theme label (c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can be based on themes, ideas, concepts, terms, phrases or key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are given a meaningful name to indentify the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The number of codes grow as we read through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7:10Z</dcterms:modified>
  <cp:revision>68</cp:revision>
  <dc:subject/>
  <dc:title>Course: Fundamentals of Research</dc:title>
</cp:coreProperties>
</file>